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youtube.com/watch?v=Qx_8gxh76i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http://www.youtube.com/watch?v=zDZFcDGpL4U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cerebrum.wikispaces.com/Searching+the+Internet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Technology &amp; Instruction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Whittney Smith, Ed.D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Agenda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8000"/>
          </a:bodyPr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onaco"/>
                <a:hlinkClick r:id="rId3"/>
              </a:rPr>
              <a:t>The Dreaded Stair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Blogging?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Discussion of the Chapters &amp; P21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onaco"/>
                <a:hlinkClick r:id="rId7"/>
              </a:rPr>
              <a:t>“Shifting Educational Paradigms”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onaco"/>
                <a:hlinkClick r:id="rId9"/>
              </a:rPr>
              <a:t>Searching the Interne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Web 2.0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796320" indent="-461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Wiki and Blog Work-Exploring Widgets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“</a:t>
            </a: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Verbs” and “NETS-S”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720" y="2406240"/>
            <a:ext cx="12776040" cy="70102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57000"/>
          </a:bodyPr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onaco"/>
              </a:rPr>
              <a:t>Table 2.1 (pgs.48-49)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Researching and Managing Information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Thinking Effectively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Communicating and Presenting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Constructing and Creating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</a:rPr>
              <a:t>Creativity and Innovation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0">
              <a:lnSpc>
                <a:spcPct val="100000"/>
              </a:lnSpc>
              <a:spcBef>
                <a:spcPts val="36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Monaco"/>
              </a:rPr>
              <a:t>NETS-S (Performance Indic.)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541"/>
                </a:solidFill>
                <a:latin typeface="Monaco"/>
              </a:rPr>
              <a:t>Creativity</a:t>
            </a: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 and Innovation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53e"/>
                </a:solidFill>
                <a:latin typeface="Monaco"/>
              </a:rPr>
              <a:t>Communication</a:t>
            </a: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 and </a:t>
            </a:r>
            <a:r>
              <a:rPr b="0" lang="en-US" sz="2100" spc="-1" strike="noStrike">
                <a:solidFill>
                  <a:srgbClr val="ff2b28"/>
                </a:solidFill>
                <a:latin typeface="Monaco"/>
              </a:rPr>
              <a:t>Collaboration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Research and Information Fluency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1b0f"/>
                </a:solidFill>
                <a:latin typeface="Monaco"/>
              </a:rPr>
              <a:t>Critical thinking</a:t>
            </a: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, Problem Solving, and Decision Making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Digital Citizenship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  <a:p>
            <a:pPr marL="492840" indent="-275760">
              <a:lnSpc>
                <a:spcPct val="100000"/>
              </a:lnSpc>
              <a:spcBef>
                <a:spcPts val="3600"/>
              </a:spcBef>
              <a:buSzPct val="14285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Monaco"/>
              </a:rPr>
              <a:t>Technology Operations and Concepts</a:t>
            </a:r>
            <a:endParaRPr b="0" lang="en-US" sz="21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Web 2.0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Read-Write-Web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Web 2.0 is the term given to describe a second generation of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rld Wide Web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that is focused on the ability for people to collaborate and share information online.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Web 2.0 &amp; the 4Cs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968480" y="2730600"/>
          <a:ext cx="9067680" cy="6045120"/>
        </p:xfrm>
        <a:graphic>
          <a:graphicData uri="http://schemas.openxmlformats.org/drawingml/2006/table">
            <a:tbl>
              <a:tblPr/>
              <a:tblGrid>
                <a:gridCol w="4533840"/>
                <a:gridCol w="4533840"/>
              </a:tblGrid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reativity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Photo Editing (Picnik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Animo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omic Strip M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Word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Blogs, Wikis, Podcasts, Screencas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90b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ommunic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Tex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Skyp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Blogg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Email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Faceboo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Podcasting, Screencast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afb"/>
                    </a:solidFill>
                  </a:tcPr>
                </a:tc>
              </a:tr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ritical Think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Google Docs (Spreadsheets, Forms, etc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Wallwis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No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Primary P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632f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ollabor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Photo Sharing (Flickr, Picas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Google Do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Glogs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Wik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Monaco"/>
                          <a:ea typeface="ヒラギノ角ゴ ProN W3"/>
                        </a:rPr>
                        <a:t>CoSket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1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Monaco"/>
                      </a:endParaRPr>
                    </a:p>
                  </a:txBody>
                  <a:tcPr anchor="ctr" marL="50760" marR="507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86cd4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